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2D7-088D-4492-9E55-1DD0A589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749-5854-434B-8C68-E09BFD57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67B-C64C-4CDC-8DAB-94259CCA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53A-F1F1-4F01-8251-B9AD43E5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06C-A4B1-4539-AB3B-960376C4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960-D633-4D05-A2A3-8238F5B5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19C-7040-4C55-92CB-14B67137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3EE-C9E2-4F2E-AD02-A2F45ED1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609120"/>
            <a:ext cx="533412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FDA-448E-40E3-8AAF-7ABDD82E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3C0-73BF-4976-8EDC-3DE313EB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865-276F-449E-B070-82259E0F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F4C-77CB-4C4E-B0F4-60329B46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Click to edit the title text format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EC92-3DF8-4FE6-95FC-F3B5D484F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ashion Art Background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693432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Engravers MT"/>
              </a:rPr>
              <a:t>The</a:t>
            </a:r>
            <a:r>
              <a:rPr b="1" lang="en-US" sz="6000" spc="-1" strike="noStrike">
                <a:solidFill>
                  <a:srgbClr val="ff3399"/>
                </a:solidFill>
                <a:latin typeface="Engravers MT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3399"/>
                </a:solidFill>
                <a:latin typeface="Engravers MT"/>
              </a:rPr>
              <a:t>Art </a:t>
            </a:r>
            <a:br>
              <a:rPr sz="6000"/>
            </a:br>
            <a:r>
              <a:rPr b="1" lang="en-US" sz="4000" spc="-1" strike="noStrike">
                <a:solidFill>
                  <a:srgbClr val="ff3399"/>
                </a:solidFill>
                <a:latin typeface="Engravers MT"/>
              </a:rPr>
              <a:t>of</a:t>
            </a:r>
            <a:r>
              <a:rPr b="1" lang="en-US" sz="4800" spc="-1" strike="noStrike">
                <a:solidFill>
                  <a:srgbClr val="ff3399"/>
                </a:solidFill>
                <a:latin typeface="Engravers MT"/>
              </a:rPr>
              <a:t> </a:t>
            </a:r>
            <a:r>
              <a:rPr b="1" lang="en-US" sz="8000" spc="-1" strike="noStrike">
                <a:solidFill>
                  <a:srgbClr val="ff3399"/>
                </a:solidFill>
                <a:latin typeface="Engravers MT"/>
              </a:rPr>
              <a:t>Fashion</a:t>
            </a:r>
            <a:endParaRPr b="0" lang="en-US" sz="8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886200" y="1600200"/>
            <a:ext cx="6553080" cy="228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-76320" y="5486400"/>
            <a:ext cx="6553440" cy="228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Curved Lines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omantic, Fragi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sual, Feminine, Graceful, Sen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ds attention lo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creases, emphasizes, reinforces rounded soft-body curves, counter straight lines and angular body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 pattern, necklines, collars, yokelines, seamlines, bows, lapels, sleeves, ruffles, skirts, gathers, trims, but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1950-petticoat, and corset to cinch waist and push out breasts"/>
          <p:cNvPicPr/>
          <p:nvPr/>
        </p:nvPicPr>
        <p:blipFill>
          <a:blip r:embed="rId2"/>
          <a:stretch/>
        </p:blipFill>
        <p:spPr>
          <a:xfrm>
            <a:off x="228600" y="0"/>
            <a:ext cx="3949560" cy="586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2002 furs, feathers, and leathers"/>
          <p:cNvPicPr/>
          <p:nvPr/>
        </p:nvPicPr>
        <p:blipFill>
          <a:blip r:embed="rId3"/>
          <a:stretch/>
        </p:blipFill>
        <p:spPr>
          <a:xfrm>
            <a:off x="3362400" y="-76320"/>
            <a:ext cx="2733480" cy="6705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2002 patchwork"/>
          <p:cNvPicPr/>
          <p:nvPr/>
        </p:nvPicPr>
        <p:blipFill>
          <a:blip r:embed="rId4"/>
          <a:stretch/>
        </p:blipFill>
        <p:spPr>
          <a:xfrm>
            <a:off x="6324480" y="195120"/>
            <a:ext cx="253044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Line Direction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that the line falls affects the design, message and illusion drast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Vertical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, strong, dignified, stiff, business-like, stately, conservative, grandious, majestic,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emphasizes, reinforces length, height, narrowness, thinness– slimming, counters horizonta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 v-necklines, pointed collars, narrow lapels, narrow panels or gores, fabric insets, lengthwise grainline, vertical stripes, darts, tucks, pleats, folds, crease, zippers, row of buttons, pockets, ties, neckties, long sleeves, high he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wjd083_fi"/>
          <p:cNvPicPr/>
          <p:nvPr/>
        </p:nvPicPr>
        <p:blipFill>
          <a:blip r:embed="rId2"/>
          <a:stretch/>
        </p:blipFill>
        <p:spPr>
          <a:xfrm>
            <a:off x="5821200" y="0"/>
            <a:ext cx="3322800" cy="563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wjj051_fi"/>
          <p:cNvPicPr/>
          <p:nvPr/>
        </p:nvPicPr>
        <p:blipFill>
          <a:blip r:embed="rId3"/>
          <a:stretch/>
        </p:blipFill>
        <p:spPr>
          <a:xfrm>
            <a:off x="228600" y="0"/>
            <a:ext cx="3413160" cy="579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wd-250_fi"/>
          <p:cNvPicPr/>
          <p:nvPr/>
        </p:nvPicPr>
        <p:blipFill>
          <a:blip r:embed="rId4"/>
          <a:stretch/>
        </p:blipFill>
        <p:spPr>
          <a:xfrm>
            <a:off x="3200400" y="685800"/>
            <a:ext cx="30686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Horizontal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ful, stable, calm, 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ax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quiet, serene, in repose, lethar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phasizes, reinforces 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lk, shortness, counters vertical lines, when placed high appears taller, when placed low appears sh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klines, flat collars, bow ties, yoke lines, horizontal stripes, belts, cuffs, waistline, sashes, patch/flap pockets, wide-set double-breasted closure, strap shoes, platform shoes, wide-brimmed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wjd062_fi"/>
          <p:cNvPicPr/>
          <p:nvPr/>
        </p:nvPicPr>
        <p:blipFill>
          <a:blip r:embed="rId2"/>
          <a:stretch/>
        </p:blipFill>
        <p:spPr>
          <a:xfrm>
            <a:off x="6400800" y="0"/>
            <a:ext cx="3008160" cy="5105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wwd038_fi"/>
          <p:cNvPicPr/>
          <p:nvPr/>
        </p:nvPicPr>
        <p:blipFill>
          <a:blip r:embed="rId3"/>
          <a:stretch/>
        </p:blipFill>
        <p:spPr>
          <a:xfrm>
            <a:off x="152280" y="0"/>
            <a:ext cx="3052800" cy="518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wwd056_fi"/>
          <p:cNvPicPr/>
          <p:nvPr/>
        </p:nvPicPr>
        <p:blipFill>
          <a:blip r:embed="rId4"/>
          <a:stretch/>
        </p:blipFill>
        <p:spPr>
          <a:xfrm>
            <a:off x="4408560" y="762120"/>
            <a:ext cx="2754360" cy="467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wjt062_fi"/>
          <p:cNvPicPr/>
          <p:nvPr/>
        </p:nvPicPr>
        <p:blipFill>
          <a:blip r:embed="rId5"/>
          <a:stretch/>
        </p:blipFill>
        <p:spPr>
          <a:xfrm>
            <a:off x="2362320" y="2590920"/>
            <a:ext cx="2514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Diagonal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76680" y="236196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v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stability, excitement, interesting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m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stless, sophisticated, in motion, vit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emphasiz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inforces the direction of the dominant 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unters vertical and horizonta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-shaped neckline, open collar, lapels, raglan sleeve seamlines, French darts, closures, surplice closure, row of buttons, fabric inset, diagonal stripes, gores, herringbone pattern, zigzag pattern, A-line skirt, flared skirt or pants, shoe laces crisscross str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wd-234_fi"/>
          <p:cNvPicPr/>
          <p:nvPr/>
        </p:nvPicPr>
        <p:blipFill>
          <a:blip r:embed="rId2"/>
          <a:stretch/>
        </p:blipFill>
        <p:spPr>
          <a:xfrm>
            <a:off x="2490840" y="1828800"/>
            <a:ext cx="2843280" cy="4826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wg-125_fi"/>
          <p:cNvPicPr/>
          <p:nvPr/>
        </p:nvPicPr>
        <p:blipFill>
          <a:blip r:embed="rId3"/>
          <a:stretch/>
        </p:blipFill>
        <p:spPr>
          <a:xfrm>
            <a:off x="5008680" y="990720"/>
            <a:ext cx="3068640" cy="520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wjd061_fi"/>
          <p:cNvPicPr/>
          <p:nvPr/>
        </p:nvPicPr>
        <p:blipFill>
          <a:blip r:embed="rId4"/>
          <a:stretch/>
        </p:blipFill>
        <p:spPr>
          <a:xfrm>
            <a:off x="76320" y="0"/>
            <a:ext cx="3052800" cy="5181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wjd074_fi"/>
          <p:cNvPicPr/>
          <p:nvPr/>
        </p:nvPicPr>
        <p:blipFill>
          <a:blip r:embed="rId5"/>
          <a:stretch/>
        </p:blipFill>
        <p:spPr>
          <a:xfrm>
            <a:off x="6664320" y="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Portfolio Assignment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3 portfolio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Line, Curved Line, Diagonal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he following in the paragrap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lines are found in the pic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re the lines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lines structural or decora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illusion and message associated with the described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What is clothing made up of?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nciples that make up appealing art apply to good fashion design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ashion has a combination of the elements and principles of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62360" y="609480"/>
            <a:ext cx="335268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Curved line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sample</a:t>
            </a:r>
            <a:br>
              <a:rPr sz="4000"/>
            </a:br>
            <a:r>
              <a:rPr b="0" lang="en-US" sz="3200" spc="-1" strike="noStrike">
                <a:solidFill>
                  <a:srgbClr val="ff3399"/>
                </a:solidFill>
                <a:latin typeface="Engravers MT"/>
              </a:rPr>
              <a:t>portfolio</a:t>
            </a: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 page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urved Line Portfolio page"/>
          <p:cNvPicPr/>
          <p:nvPr/>
        </p:nvPicPr>
        <p:blipFill>
          <a:blip r:embed="rId2"/>
          <a:stretch/>
        </p:blipFill>
        <p:spPr>
          <a:xfrm>
            <a:off x="0" y="0"/>
            <a:ext cx="524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What is good and bad about the following portfolio pages?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10080" y="685800"/>
            <a:ext cx="3657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Engravers MT"/>
              </a:rPr>
              <a:t>Diagonal</a:t>
            </a: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 Line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sample</a:t>
            </a:r>
            <a:br>
              <a:rPr sz="4000"/>
            </a:br>
            <a:r>
              <a:rPr b="0" lang="en-US" sz="3200" spc="-1" strike="noStrike">
                <a:solidFill>
                  <a:srgbClr val="ff3399"/>
                </a:solidFill>
                <a:latin typeface="Engravers MT"/>
              </a:rPr>
              <a:t>portfolio</a:t>
            </a: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 page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line - diagonal"/>
          <p:cNvPicPr/>
          <p:nvPr/>
        </p:nvPicPr>
        <p:blipFill>
          <a:blip r:embed="rId2"/>
          <a:srcRect l="1478" t="0" r="954" b="7526"/>
          <a:stretch/>
        </p:blipFill>
        <p:spPr>
          <a:xfrm>
            <a:off x="76320" y="0"/>
            <a:ext cx="526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86400" y="609120"/>
            <a:ext cx="358128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Engravers MT"/>
              </a:rPr>
              <a:t>Straight</a:t>
            </a: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 line </a:t>
            </a:r>
            <a:r>
              <a:rPr b="0" lang="en-US" sz="3200" spc="-1" strike="noStrike">
                <a:solidFill>
                  <a:srgbClr val="ff3399"/>
                </a:solidFill>
                <a:latin typeface="Engravers MT"/>
              </a:rPr>
              <a:t>portfolio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Engravers MT"/>
              </a:rPr>
              <a:t>sample</a:t>
            </a: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 page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line - straight"/>
          <p:cNvPicPr/>
          <p:nvPr/>
        </p:nvPicPr>
        <p:blipFill>
          <a:blip r:embed="rId2"/>
          <a:srcRect l="1464" t="0" r="0" b="7445"/>
          <a:stretch/>
        </p:blipFill>
        <p:spPr>
          <a:xfrm>
            <a:off x="152280" y="0"/>
            <a:ext cx="530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62160" y="152280"/>
            <a:ext cx="5181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a paragraph using this picture as an example of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… Find the criteria in the photo and take notes about YOUR photo NOT the notes from the PowerPoint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men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usi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notes to create the paragraph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thesaurus if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Fashion paragraph example"/>
          <p:cNvPicPr/>
          <p:nvPr/>
        </p:nvPicPr>
        <p:blipFill>
          <a:blip r:embed="rId1"/>
          <a:stretch/>
        </p:blipFill>
        <p:spPr>
          <a:xfrm>
            <a:off x="0" y="0"/>
            <a:ext cx="385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Object 4"/>
          <p:cNvGraphicFramePr/>
          <p:nvPr/>
        </p:nvGraphicFramePr>
        <p:xfrm>
          <a:off x="1868400" y="0"/>
          <a:ext cx="514188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0"/>
                    <a:ext cx="514188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Elements of Design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50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24280" y="685800"/>
            <a:ext cx="426744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What lines appear in this dress?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pic>
        <p:nvPicPr>
          <p:cNvPr id="53" name="Picture 2053" descr="01b"/>
          <p:cNvPicPr/>
          <p:nvPr/>
        </p:nvPicPr>
        <p:blipFill>
          <a:blip r:embed="rId2"/>
          <a:stretch/>
        </p:blipFill>
        <p:spPr>
          <a:xfrm>
            <a:off x="228600" y="0"/>
            <a:ext cx="44146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99"/>
                </a:solidFill>
                <a:latin typeface="Engravers MT"/>
              </a:rPr>
              <a:t>Line</a:t>
            </a:r>
            <a:endParaRPr b="0" lang="en-US" sz="8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s to an elongated mark that connects two or more points.  Line encloses and divides space, creating shapes and forms.  Seam lines divide and enclose space on a ga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Effects of line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reate optical illu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ive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>
            <a:off x="2971800" y="3733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>
            <a:off x="2971800" y="42670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2971800" y="4800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>
            <a:off x="2971800" y="5334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 flipV="1">
            <a:off x="2971800" y="41144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2971800" y="4267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4"/>
          <p:cNvSpPr/>
          <p:nvPr/>
        </p:nvSpPr>
        <p:spPr>
          <a:xfrm flipV="1">
            <a:off x="586728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5"/>
          <p:cNvSpPr/>
          <p:nvPr/>
        </p:nvSpPr>
        <p:spPr>
          <a:xfrm flipH="1" flipV="1">
            <a:off x="5638320" y="41144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5867280" y="48006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7"/>
          <p:cNvSpPr/>
          <p:nvPr/>
        </p:nvSpPr>
        <p:spPr>
          <a:xfrm flipH="1" flipV="1">
            <a:off x="2666520" y="46479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5714640" y="4267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9"/>
          <p:cNvSpPr/>
          <p:nvPr/>
        </p:nvSpPr>
        <p:spPr>
          <a:xfrm flipH="1">
            <a:off x="2819160" y="4800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58672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2971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41911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419112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42670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41911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28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– lines required to maintain the structure of the garment; for example, s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rative – lines created by the designer purely for decoration; for example, a printed-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9" descr="wjd004_fi"/>
          <p:cNvPicPr/>
          <p:nvPr/>
        </p:nvPicPr>
        <p:blipFill>
          <a:blip r:embed="rId2"/>
          <a:stretch/>
        </p:blipFill>
        <p:spPr>
          <a:xfrm>
            <a:off x="6781680" y="2819520"/>
            <a:ext cx="175104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30" descr="wjt052_fi"/>
          <p:cNvPicPr/>
          <p:nvPr/>
        </p:nvPicPr>
        <p:blipFill>
          <a:blip r:embed="rId3"/>
          <a:stretch/>
        </p:blipFill>
        <p:spPr>
          <a:xfrm>
            <a:off x="4800600" y="1066680"/>
            <a:ext cx="1720800" cy="2921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32"/>
          <p:cNvSpPr/>
          <p:nvPr/>
        </p:nvSpPr>
        <p:spPr>
          <a:xfrm>
            <a:off x="3352680" y="380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Engravers MT"/>
              </a:rPr>
              <a:t>Struc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33"/>
          <p:cNvSpPr/>
          <p:nvPr/>
        </p:nvSpPr>
        <p:spPr>
          <a:xfrm>
            <a:off x="4800600" y="5943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Engravers MT"/>
              </a:rPr>
              <a:t>Deco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34"/>
          <p:cNvSpPr/>
          <p:nvPr/>
        </p:nvSpPr>
        <p:spPr>
          <a:xfrm>
            <a:off x="7010280" y="1371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Engravers MT"/>
              </a:rPr>
              <a:t>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Engravers MT"/>
              </a:rPr>
              <a:t>Straight Lines</a:t>
            </a: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cef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igid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ard, Formal, Masculine, Crisp, Stiff, Sev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phasizes, reinforces body 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gles, counters curved lines and rounded body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s, Necklines, Collars, Lapels, Seamlines, Darts, Tucks, Pleats, Folds, Stripes, Shapes, Silhoue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28" descr="pink fashion art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99"/>
              </a:solidFill>
              <a:latin typeface="Engraver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030" descr="2002 men's fashion for women"/>
          <p:cNvPicPr/>
          <p:nvPr/>
        </p:nvPicPr>
        <p:blipFill>
          <a:blip r:embed="rId2"/>
          <a:stretch/>
        </p:blipFill>
        <p:spPr>
          <a:xfrm>
            <a:off x="343080" y="0"/>
            <a:ext cx="2705040" cy="662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31" descr="2002 black"/>
          <p:cNvPicPr/>
          <p:nvPr/>
        </p:nvPicPr>
        <p:blipFill>
          <a:blip r:embed="rId3"/>
          <a:stretch/>
        </p:blipFill>
        <p:spPr>
          <a:xfrm>
            <a:off x="3222720" y="0"/>
            <a:ext cx="27972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32" descr="2002 thin belts"/>
          <p:cNvPicPr/>
          <p:nvPr/>
        </p:nvPicPr>
        <p:blipFill>
          <a:blip r:embed="rId4"/>
          <a:stretch/>
        </p:blipFill>
        <p:spPr>
          <a:xfrm>
            <a:off x="6135840" y="0"/>
            <a:ext cx="2703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5:39:11Z</dcterms:created>
  <dc:creator>Becky Parkinson</dc:creator>
  <dc:description/>
  <dc:language>en-US</dc:language>
  <cp:lastModifiedBy>dist 10</cp:lastModifiedBy>
  <dcterms:modified xsi:type="dcterms:W3CDTF">2009-02-02T03:43:37Z</dcterms:modified>
  <cp:revision>60</cp:revision>
  <dc:subject/>
  <dc:title>The  Art  of Fashion</dc:title>
</cp:coreProperties>
</file>